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3A86-6887-4558-84B9-8F743DD5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6BFB-8A1C-4F96-8072-86342078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E9E-74BB-4BBD-AC53-B13D3A15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4BE2-3E28-444C-9169-BAD75565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B39F-BD1C-4452-B901-2E909A09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5710-839A-4034-807A-A6F2D218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3D17-5E96-4939-B906-54898658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8AA5-B0C7-4449-8D05-1E7B569E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BFF7-69E4-4B1C-988F-85A600A7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4CDE-F98A-469F-9C88-F5287073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A0E5-DF48-4874-A025-3C1DEA32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DE5-267C-40B5-8A71-239B12EB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1268-07A3-418E-9463-CDD03636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3769-DA8F-4532-BC40-78734F4C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C5DC-5F69-4405-816D-CAB2DFEB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98AA-3782-4126-BD1D-F92E8F50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BB15-E84F-4E7E-A528-17B693F0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81E-051F-4AC7-B686-9943805D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21C-A4A5-4808-99AF-9F331280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002A-C626-4BEC-99DB-B19D1503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F99A-7D52-48F4-9CD2-80A7FC1B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C4E-BEE7-4581-97A9-89DDB25A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84B8-D25C-4F42-9278-8E3BAA81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FAFD-2ED0-4709-B54D-0675F0B9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2DD9D3-08F6-46E3-A85D-FC8CBB339CC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B2D203-A87A-478E-B8D3-06BCACDC8AA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928880" y="2357280"/>
            <a:ext cx="52858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Заголовок 1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me Facts About British Newspa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одержимое 2"/>
          <p:cNvSpPr/>
          <p:nvPr/>
        </p:nvSpPr>
        <p:spPr>
          <a:xfrm>
            <a:off x="457200" y="1268280"/>
            <a:ext cx="822924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7000"/>
          </a:bodyPr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iest known newspaper of British origi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Oxford Gazet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166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newspapers are divided into three sectors: Quality Press, Middle-Market Press, Red-Top Tabloids (Popular P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Great Britain there are 3 formats of newspapers: Broadsheet, Berliner, Compa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newspapers divided into Daily and Su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Овал 1"/>
          <p:cNvSpPr/>
          <p:nvPr/>
        </p:nvSpPr>
        <p:spPr>
          <a:xfrm>
            <a:off x="2123640" y="0"/>
            <a:ext cx="4536000" cy="1944000"/>
          </a:xfrm>
          <a:prstGeom prst="ellipse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chemeClr val="lt1"/>
                </a:solidFill>
                <a:latin typeface="Calibri"/>
              </a:rPr>
              <a:t>Quality Pr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Прямая со стрелкой 2"/>
          <p:cNvCxnSpPr/>
          <p:nvPr/>
        </p:nvCxnSpPr>
        <p:spPr>
          <a:xfrm flipH="1">
            <a:off x="900000" y="1341360"/>
            <a:ext cx="1368720" cy="71928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88" name="Овал 3"/>
          <p:cNvSpPr/>
          <p:nvPr/>
        </p:nvSpPr>
        <p:spPr>
          <a:xfrm>
            <a:off x="0" y="2061000"/>
            <a:ext cx="3275640" cy="1151640"/>
          </a:xfrm>
          <a:prstGeom prst="ellipse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chemeClr val="lt1"/>
                </a:solidFill>
                <a:latin typeface="Calibri"/>
              </a:rPr>
              <a:t>Broad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Прямая со стрелкой 4"/>
          <p:cNvCxnSpPr/>
          <p:nvPr/>
        </p:nvCxnSpPr>
        <p:spPr>
          <a:xfrm>
            <a:off x="4284360" y="1989000"/>
            <a:ext cx="360" cy="237672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90" name="Овал 5"/>
          <p:cNvSpPr/>
          <p:nvPr/>
        </p:nvSpPr>
        <p:spPr>
          <a:xfrm>
            <a:off x="2555640" y="4437000"/>
            <a:ext cx="3384000" cy="1007640"/>
          </a:xfrm>
          <a:prstGeom prst="ellipse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chemeClr val="lt1"/>
                </a:solidFill>
                <a:latin typeface="Calibri"/>
              </a:rPr>
              <a:t>Berli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6"/>
          <p:cNvCxnSpPr/>
          <p:nvPr/>
        </p:nvCxnSpPr>
        <p:spPr>
          <a:xfrm>
            <a:off x="6372000" y="1484280"/>
            <a:ext cx="1224360" cy="72108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92" name="Овал 7"/>
          <p:cNvSpPr/>
          <p:nvPr/>
        </p:nvSpPr>
        <p:spPr>
          <a:xfrm>
            <a:off x="6119640" y="2349000"/>
            <a:ext cx="3024000" cy="1007640"/>
          </a:xfrm>
          <a:prstGeom prst="ellipse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chemeClr val="lt1"/>
                </a:solidFill>
                <a:latin typeface="Calibri"/>
              </a:rPr>
              <a:t>Co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0" y="3500280"/>
            <a:ext cx="313164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ily Tele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nda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2771640" y="5805360"/>
            <a:ext cx="295236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uar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b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8"/>
          <p:cNvSpPr/>
          <p:nvPr/>
        </p:nvSpPr>
        <p:spPr>
          <a:xfrm>
            <a:off x="6407280" y="3573360"/>
            <a:ext cx="2736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Скругленный прямоугольник 1"/>
          <p:cNvSpPr/>
          <p:nvPr/>
        </p:nvSpPr>
        <p:spPr>
          <a:xfrm>
            <a:off x="2699640" y="260640"/>
            <a:ext cx="3960000" cy="93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lt1"/>
                </a:solidFill>
                <a:latin typeface="Calibri"/>
              </a:rPr>
              <a:t>Middle-Mar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Соединительная линия уступом 2"/>
          <p:cNvCxnSpPr/>
          <p:nvPr/>
        </p:nvCxnSpPr>
        <p:spPr>
          <a:xfrm flipV="1" rot="10800000">
            <a:off x="1834920" y="1196640"/>
            <a:ext cx="1153080" cy="1511640"/>
          </a:xfrm>
          <a:prstGeom prst="bentConnector2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98" name="Соединительная линия уступом 3"/>
          <p:cNvCxnSpPr/>
          <p:nvPr/>
        </p:nvCxnSpPr>
        <p:spPr>
          <a:xfrm>
            <a:off x="6372000" y="1196640"/>
            <a:ext cx="1224360" cy="1511640"/>
          </a:xfrm>
          <a:prstGeom prst="bentConnector2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99" name="Скругленный прямоугольник 4"/>
          <p:cNvSpPr/>
          <p:nvPr/>
        </p:nvSpPr>
        <p:spPr>
          <a:xfrm>
            <a:off x="395640" y="2853000"/>
            <a:ext cx="3168000" cy="79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lt1"/>
                </a:solidFill>
                <a:latin typeface="Calibri"/>
              </a:rPr>
              <a:t>Da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5724000" y="2925000"/>
            <a:ext cx="3168000" cy="79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lt1"/>
                </a:solidFill>
                <a:latin typeface="Calibri"/>
              </a:rPr>
              <a:t>Su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68360" y="4149720"/>
            <a:ext cx="287928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ily Ex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ily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5724360" y="4221000"/>
            <a:ext cx="309528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nday Ex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il on Su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Заголовок 1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most famous British newspapers ar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2" spcCol="0"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1" action="ppaction://hlinksldjump"/>
              </a:rPr>
              <a:t>The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2" action="ppaction://hlinksldjump"/>
              </a:rPr>
              <a:t>The Independ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3" action="ppaction://hlinksldjump"/>
              </a:rPr>
              <a:t>The Guard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4" action="ppaction://hlinksldjump"/>
              </a:rPr>
              <a:t>The Daily M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5" action="ppaction://hlinksldjump"/>
              </a:rPr>
              <a:t>The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6" action="ppaction://hlinksldjump"/>
              </a:rPr>
              <a:t>S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7" action="ppaction://hlinksldjump"/>
              </a:rPr>
              <a:t>The Daily Exp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8" action="ppaction://hlinksldjump"/>
              </a:rPr>
              <a:t>The Ob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hlinkClick r:id="rId9" action="ppaction://hlinksldjump"/>
              </a:rPr>
              <a:t>The Sunday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121</Words>
  <Paragraphs>36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6T22:16:52Z</dcterms:created>
  <dc:creator>comp001</dc:creator>
  <dc:description/>
  <dc:language>en-US</dc:language>
  <cp:lastModifiedBy>comp001</cp:lastModifiedBy>
  <dcterms:modified xsi:type="dcterms:W3CDTF">2013-05-26T22:25:53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